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8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19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2.png" ContentType="image/png"/>
  <Override PartName="/ppt/media/image11.jpeg" ContentType="image/jpeg"/>
  <Override PartName="/ppt/media/image9.jpeg" ContentType="image/jpeg"/>
  <Override PartName="/ppt/media/image15.jpeg" ContentType="image/jpeg"/>
  <Override PartName="/ppt/media/image18.gif" ContentType="image/gif"/>
  <Override PartName="/ppt/media/image13.jpeg" ContentType="image/jpeg"/>
  <Override PartName="/ppt/media/Merry%20Gentlemen.wav" ContentType="audio/x-wav"/>
  <Override PartName="/ppt/media/image3.jpeg" ContentType="image/jpe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F6A-9A61-4FE6-9D40-8703F8FE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432-185A-46C2-B01E-A7D452C3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201-DC1F-47B1-A24F-97519CB6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68F-0CBB-45B3-9896-B00C1791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BE7-4D74-4E89-AC25-2E2FA85F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B92-8C0D-42AD-A33A-06DF716B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C7F-5DD3-4138-B912-A265E173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68A-23FF-434E-92C7-C331FAC1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B67-C590-4138-90C9-7FC7D9F8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D40-095C-47DC-8EFD-4E2D188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D06-9359-41FD-BBE3-415DECB0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D9F-2BAB-448B-8796-4046BFEB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C15F-208A-44A4-B522-D06FB661D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erry%20Gentlemen.wav" TargetMode="External"/><Relationship Id="rId3" Type="http://schemas.microsoft.com/office/2007/relationships/media" Target="file:///tmp/home/.config/libreoffice/4/user/gallery/Merry%20Gentlemen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Merry%20Gentlemen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Merry%20Gentlemen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d rest mery gentl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2000" y="5373360"/>
            <a:ext cx="421164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a, Aurora, Nahomi, Carlos ,Adrian,Alberto y  I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  <p:sndAc>
      <p:stSnd>
        <p:snd r:embed="rId5" name="Merry%20Gentlem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9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How, that in behtlehem was born,</a:t>
            </a:r>
            <a:br>
              <a:rPr sz="3600"/>
            </a:b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the son of god by nam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h tidings of comfort and joy´, comfort and joy , oh tidings of comfort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rument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h tidings of comfort and joy´, comfort and joy , oh tidings of comfort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rd"/>
    <p:sndAc>
      <p:stSnd>
        <p:snd r:embed="rId2" name="Merry%20Gentleme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19280" y="62028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he shepherds at these tidings, Rejoiced much in mind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88000" y="907560"/>
            <a:ext cx="40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left their flocks a feeding, in tempest storm and wi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went to Bethlehem straight way,the blessed babe to 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h tidings of comfort and joy , comfort and joy , Oh tidings of comfort and jo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God rest ye merry gentlemen let nothing you dism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member Christ our saviour , Was born on christmas da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save us all from Satan´s power , when we were gone astray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h tiding of comfort and joy comfort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oh tiding of comfort and joy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om God our heavenly father 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 blessed Angel cam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unto certain shepherds,brought tidings of the s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4:45:19Z</dcterms:created>
  <dc:creator>pc10</dc:creator>
  <dc:description/>
  <dc:language>en-US</dc:language>
  <cp:lastModifiedBy>pc10</cp:lastModifiedBy>
  <dcterms:modified xsi:type="dcterms:W3CDTF">2010-12-29T17:43:04Z</dcterms:modified>
  <cp:revision>12</cp:revision>
  <dc:subject/>
  <dc:title>Diapositiva 1</dc:title>
</cp:coreProperties>
</file>